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E57A-7A8C-45B6-9F37-5626B90D7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49D4-4A0D-4A07-806B-47F935D5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C87B-D555-452D-95F5-A535CAD72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2E94-50D2-474B-AA71-12B9BB6B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E82-6979-4A02-94AB-4C03FC83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B7F-D4AE-43E4-800F-9844B290C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85F4-6224-4448-A079-E95C1FC76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7358-4DCA-4238-9812-75EE891B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EA1-2829-4F7A-BA8B-EECA31163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069-FEBA-4084-88ED-46C17D7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182-B0F2-4CBF-A098-479C6EF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1C6-A935-4D26-A4A2-53BBAB50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750-1353-4E19-A226-B94AFE6B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11BB-4630-4076-8D29-66482D93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B38-49F4-482A-9628-765A980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F2A-675C-4587-A777-C75666D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0E6A-3118-443A-B62B-4460FE6F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0041-113E-4C85-BC44-1077893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A3E-A740-476D-9C29-B75931F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8D8-CD8A-499F-ABE1-02E8DC3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496-1422-4064-BAA3-E4FE526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265F-8B8B-46D5-BA63-93A0BD5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05E3-0A20-4369-B17E-1DBBA80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8D83-0A70-4143-8C99-719F9B2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FB85-DE17-4D43-B971-5BCE6A91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1332-31AD-4046-8301-D61BA09B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B51-E3CD-48C0-877B-025B7434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3F2-A1CE-4FDB-80E6-35406BDF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F99-B42F-4546-B5B7-3B10352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C11-C732-455E-A9B1-744B929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467-DF74-41CF-B812-476AFAE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3D2-86CA-4DD2-91E7-57E7193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363-7696-48B4-A2C7-718FDB2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1679-4698-4634-92E7-4EB00564DB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F5F-4B83-4F10-9D5E-12FA8D7F6D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0033"/>
                </a:solidFill>
                <a:latin typeface="Times New Roman"/>
              </a:rPr>
              <a:t>Los Números y El Tiemp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P900448441[2]"/>
          <p:cNvPicPr/>
          <p:nvPr/>
        </p:nvPicPr>
        <p:blipFill>
          <a:blip r:embed="rId1"/>
          <a:stretch/>
        </p:blipFill>
        <p:spPr>
          <a:xfrm>
            <a:off x="3276720" y="2819520"/>
            <a:ext cx="3276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¿Qué hora e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on l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all hours except 1:0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s la u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1:00 only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¿A qué hora…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l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all hours except 1:0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1:00 only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l Tiempo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we learn how to answer the questions… let’s learn how to tell time in Spanis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Cj04242320000[1]"/>
          <p:cNvPicPr/>
          <p:nvPr/>
        </p:nvPicPr>
        <p:blipFill>
          <a:blip r:embed="rId1"/>
          <a:stretch/>
        </p:blipFill>
        <p:spPr>
          <a:xfrm>
            <a:off x="2971800" y="2895480"/>
            <a:ext cx="3581280" cy="26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hora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: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5:1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:0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2:4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0: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560" y="1828800"/>
            <a:ext cx="3809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tres y ve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cinco y c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ocho 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l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la una menos c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once menos d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A qué hora empieza l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:3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: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: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: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Contesta las pregunta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 fiesta? (8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mpi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 clase? (11: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i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lase? (12: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 (3: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 (6:4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s respues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iest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o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la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pie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once y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la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mi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doc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s cuatro menos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s siete menos vei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 Chec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sk and tell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different in Spanish and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different ways to express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Los Números M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á</a:t>
            </a: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s de 1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520" y="1599840"/>
            <a:ext cx="40388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 =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= d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 = tr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= cat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= qu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= dieci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= dieci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= dieci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 = dieci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= v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= 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= cuar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= cincu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= ses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= set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= och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 = no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= 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33"/>
                </a:solidFill>
                <a:latin typeface="Times New Roman"/>
              </a:rPr>
              <a:t>Two ways to write numbers in the 20’s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ici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e y ci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i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e y 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Once you are out of the 20’s you have to write it the easy way…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reinta y 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chenta y si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senta y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incuenta y o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4"/>
          <p:cNvSpPr/>
          <p:nvPr/>
        </p:nvSpPr>
        <p:spPr>
          <a:xfrm>
            <a:off x="3200400" y="1981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5"/>
          <p:cNvSpPr/>
          <p:nvPr/>
        </p:nvSpPr>
        <p:spPr>
          <a:xfrm>
            <a:off x="3276720" y="2666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6"/>
          <p:cNvSpPr/>
          <p:nvPr/>
        </p:nvSpPr>
        <p:spPr>
          <a:xfrm>
            <a:off x="3276720" y="3352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7"/>
          <p:cNvSpPr/>
          <p:nvPr/>
        </p:nvSpPr>
        <p:spPr>
          <a:xfrm>
            <a:off x="3276720" y="3962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l Tiempo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2 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s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sk and tell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different in Spanish and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different ways to express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re are 2 question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ime does something happ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s Pregun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does something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733920" y="2286000"/>
            <a:ext cx="267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Qué hora e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733920" y="3962520"/>
            <a:ext cx="2695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A qué hora...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50:36Z</dcterms:created>
  <dc:creator>ctaylor-simon</dc:creator>
  <dc:description/>
  <dc:language>en-US</dc:language>
  <cp:lastModifiedBy>Mustelier, Maria</cp:lastModifiedBy>
  <dcterms:modified xsi:type="dcterms:W3CDTF">2013-08-25T15:46:27Z</dcterms:modified>
  <cp:revision>13</cp:revision>
  <dc:subject/>
  <dc:title>El Tiempo</dc:title>
</cp:coreProperties>
</file>